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77200" y="6381720"/>
            <a:ext cx="309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4b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9280" y="6608520"/>
            <a:ext cx="2880000" cy="20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S Metadata Tools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5.03.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26440" y="6459480"/>
            <a:ext cx="349200" cy="3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72360" y="6608880"/>
            <a:ext cx="15112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: </a:t>
            </a:r>
            <a:fld id="{3ADB47B7-DB6E-4BB3-B58C-B751A79E35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3051360" cy="2441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867280" y="1197000"/>
            <a:ext cx="3051360" cy="2441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9840"/>
            <a:ext cx="66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eutscher Wetter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059280" y="177336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5364000" y="3500280"/>
            <a:ext cx="3051360" cy="2441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soft.org/xmllint.html" TargetMode="External"/><Relationship Id="rId2" Type="http://schemas.openxmlformats.org/officeDocument/2006/relationships/hyperlink" Target="http://www.inspire-geoportal.eu/INSPIREValidatorClient/validate.do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949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WIS – Metadata Tools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6288120"/>
            <a:ext cx="82072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us Heene, DW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markus.heene@dwd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001F0-FD8D-46AF-866B-B7B32B666E2C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Validation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Program with Xerces – hands-on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lint – Developer Version! – Stable release can’t handle iso19139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xmlsoft.org/xmlli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Validator Online – Sometimes not available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www.inspire-geoportal.eu/INSPIREValidatorClient/validate.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F0C6A-E4DF-4D77-8C2D-B2CB22B238FF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Generation and Maintenanc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 Approach for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l: XML::LibXML http://search.cpan.org/~shlomif/XML-LibXML-1.94/LibXML.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: JDOM http://www.jdom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mod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FC42D-F65C-44D4-B4AA-49D2718FBAC2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357360"/>
            <a:ext cx="8856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4b9b"/>
                </a:solidFill>
                <a:latin typeface="Arial"/>
              </a:rPr>
              <a:t>Q&amp;A</a:t>
            </a:r>
            <a:endParaRPr b="1" lang="en-US" sz="32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E4CB9-1157-40B6-B98F-8C0D341327CA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09:57:45Z</dcterms:created>
  <dc:creator>Administrator</dc:creator>
  <dc:description/>
  <dc:language>en-US</dc:language>
  <cp:lastModifiedBy>Markus Heene</cp:lastModifiedBy>
  <cp:lastPrinted>2006-12-13T10:14:45Z</cp:lastPrinted>
  <dcterms:modified xsi:type="dcterms:W3CDTF">2012-03-05T16:49:09Z</dcterms:modified>
  <cp:revision>261</cp:revision>
  <dc:subject/>
  <dc:title>Folie 1</dc:title>
</cp:coreProperties>
</file>