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38240" y="802800"/>
            <a:ext cx="5022720" cy="37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46080" y="4892400"/>
            <a:ext cx="5207040" cy="4570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704160"/>
            <a:ext cx="3078000" cy="561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4021200" y="9704160"/>
            <a:ext cx="3078000" cy="561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7D773C-D9DB-422B-B766-B15A6038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5E2CA7FF-38A1-442B-BBB8-A0B4AF43DF0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5B023EC5-9D46-40BA-A790-06FF464F716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38240" y="803160"/>
            <a:ext cx="502272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D8B75B77-A9E1-41D4-89F5-424F8CBB886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C8370E4E-C5EC-4D71-9D48-B37D0B887BA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28880" y="79704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38240" y="803160"/>
            <a:ext cx="5022720" cy="37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45720" y="4892400"/>
            <a:ext cx="520380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C2147C2A-BC33-499E-96FE-49FECAD6399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A8767145-4312-4F5E-8711-EB4F07DDFFC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38240" y="803160"/>
            <a:ext cx="502272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77200" y="6381720"/>
            <a:ext cx="309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4b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9280" y="6608520"/>
            <a:ext cx="2880000" cy="20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R Metadata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.09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26440" y="6459480"/>
            <a:ext cx="349200" cy="3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72360" y="6608880"/>
            <a:ext cx="1511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: </a:t>
            </a:r>
            <a:fld id="{4D2197E2-16ED-4022-9418-CE04CBDBD5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9840"/>
            <a:ext cx="66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utscher Wetter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2881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us Heene, DW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markus.heene@dwd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spire.jrc.ec.europa.eu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lese.org/dds/services/joai_software.jsp" TargetMode="External"/><Relationship Id="rId2" Type="http://schemas.openxmlformats.org/officeDocument/2006/relationships/hyperlink" Target="http://www.oclc.org/research/activities/oaicat/default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nspire-geoportal.eu/InspireEditor/" TargetMode="External"/><Relationship Id="rId2" Type="http://schemas.openxmlformats.org/officeDocument/2006/relationships/hyperlink" Target="http://inspire.jrc.ec.europa.eu/documents/Metadata/INSPIRE_MD_IR_and_ISO_v1_2_20100616.pdf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Black"/>
              </a:rPr>
              <a:t>DAR Metadat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0510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record types &amp; associated dataset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lst both datasets are continually changing, both metadata records are ‘quasi-static’; only needing to be changed when the observation regime changes (i.e. a new instrument is deployed or the exact observation location changes) The critical differences between record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this example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oral extent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lativ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oral extent in any 24-hour period, whils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as a temporal extent from 1954 to (almost) present da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tation authority: authority fo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.wmo.w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whils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.no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ality control: the dataset described b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ay have undergone additional quality control to validate the observation record for inclusion in a long-term arch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lst the meeting noted that ther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 significant overlap betwe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ne cannot assume that overlap exists. The meeting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cluded that metadata records A and B describe entirely different products!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D294D-3E61-4914-81A3-5A9B99BE619D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AR Metadata Identifier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n:x-wmo:m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.wmo.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.d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 is “: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int.wmo.wis::SMAA01EDZ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int.wmo.wis::FCUK31EG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cn.gov.cma::NMC.NWP.HCXA05BA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insensitive check for du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 uniqueness of a DAR Metadata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md:MD_Metadata/gmd:file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md:MD_Metadata/gmd:dateSt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F6F24-FC23-4A45-8304-95682E22B446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4b9b"/>
                </a:solidFill>
                <a:latin typeface="Arial"/>
              </a:rPr>
              <a:t>Introduction to DWD DAR metadata approach for GISC – conformance part</a:t>
            </a:r>
            <a:endParaRPr b="1" lang="en-US" sz="18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19139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O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conform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Commission Directive (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inspire.jrc.ec.europa.e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manding than 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guidelines (paper with 74 pages) (http://inspire.jrc.ec.europa.eu/documents/Metadata/INSPIRE_MD_IR_and_ISO_v1_2_20100616.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metadata by ~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C16B6-31E0-4475-848C-E4E298218AC5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WD DAR Metadata generator - architectur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2520" y="32846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724280"/>
            <a:ext cx="1008000" cy="1297080"/>
          </a:xfrm>
          <a:prstGeom prst="can">
            <a:avLst>
              <a:gd name="adj" fmla="val 25000"/>
            </a:avLst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360" y="6113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800" y="328464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1989000"/>
            <a:ext cx="1008000" cy="1295640"/>
          </a:xfrm>
          <a:prstGeom prst="flowChartDocument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1916280"/>
            <a:ext cx="1008000" cy="1366560"/>
          </a:xfrm>
          <a:prstGeom prst="flowChartMultidocumen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068640"/>
            <a:ext cx="863640" cy="934920"/>
          </a:xfrm>
          <a:prstGeom prst="flowChartPredefined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5" idx="1"/>
          </p:cNvCxnSpPr>
          <p:nvPr/>
        </p:nvCxnSpPr>
        <p:spPr>
          <a:xfrm flipV="1">
            <a:off x="899640" y="4004640"/>
            <a:ext cx="108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900000" y="429264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060640"/>
            <a:ext cx="863640" cy="647640"/>
          </a:xfrm>
          <a:prstGeom prst="flowChart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20" y="270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00" y="198900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DataFi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1"/>
            <a:endCxn id="130" idx="0"/>
          </p:cNvCxnSpPr>
          <p:nvPr/>
        </p:nvCxnSpPr>
        <p:spPr>
          <a:xfrm flipV="1" rot="10800000">
            <a:off x="899280" y="2383200"/>
            <a:ext cx="936000" cy="68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33" idx="2"/>
            <a:endCxn id="128" idx="1"/>
          </p:cNvCxnSpPr>
          <p:nvPr/>
        </p:nvCxnSpPr>
        <p:spPr>
          <a:xfrm flipH="1" flipV="1" rot="5400000">
            <a:off x="3311280" y="1591920"/>
            <a:ext cx="72000" cy="2161080"/>
          </a:xfrm>
          <a:prstGeom prst="bentConnector4">
            <a:avLst>
              <a:gd name="adj1" fmla="val -319597"/>
              <a:gd name="adj2" fmla="val 6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771280" y="29973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d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221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4005360"/>
            <a:ext cx="936720" cy="1079280"/>
          </a:xfrm>
          <a:prstGeom prst="flowChartPredefined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5423040"/>
            <a:ext cx="10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Fa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3" idx="2"/>
            <a:endCxn id="141" idx="2"/>
          </p:cNvCxnSpPr>
          <p:nvPr/>
        </p:nvCxnSpPr>
        <p:spPr>
          <a:xfrm flipH="1" rot="16200000">
            <a:off x="1672200" y="3301560"/>
            <a:ext cx="2377080" cy="1189800"/>
          </a:xfrm>
          <a:prstGeom prst="bentConnector3">
            <a:avLst>
              <a:gd name="adj1" fmla="val 109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1835280" y="4869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4797360"/>
            <a:ext cx="80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22160" y="609300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9139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29" idx="1"/>
            <a:endCxn id="141" idx="3"/>
          </p:cNvCxnSpPr>
          <p:nvPr/>
        </p:nvCxnSpPr>
        <p:spPr>
          <a:xfrm flipV="1" rot="10800000">
            <a:off x="3923640" y="2599920"/>
            <a:ext cx="2880360" cy="1945440"/>
          </a:xfrm>
          <a:prstGeom prst="bentConnector3">
            <a:avLst>
              <a:gd name="adj1" fmla="val 246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3" idx="2"/>
            <a:endCxn id="141" idx="0"/>
          </p:cNvCxnSpPr>
          <p:nvPr/>
        </p:nvCxnSpPr>
        <p:spPr>
          <a:xfrm flipH="1" rot="16200000">
            <a:off x="2211840" y="2761920"/>
            <a:ext cx="1297800" cy="1189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340000" y="350028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2880" y="35146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 XS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2" idx="1"/>
            <a:endCxn id="141" idx="2"/>
          </p:cNvCxnSpPr>
          <p:nvPr/>
        </p:nvCxnSpPr>
        <p:spPr>
          <a:xfrm rot="10800000">
            <a:off x="3455280" y="5083920"/>
            <a:ext cx="219600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140360" y="5445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5800" y="580536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lidate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4653000"/>
            <a:ext cx="865080" cy="1150920"/>
          </a:xfrm>
          <a:prstGeom prst="flowChartDocumen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41" idx="3"/>
            <a:endCxn id="155" idx="1"/>
          </p:cNvCxnSpPr>
          <p:nvPr/>
        </p:nvCxnSpPr>
        <p:spPr>
          <a:xfrm>
            <a:off x="3924360" y="4544640"/>
            <a:ext cx="3744000" cy="68508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5651640" y="4797360"/>
            <a:ext cx="934920" cy="122400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479736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4160" y="530064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9800" y="5877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57E9F-C02E-4B77-8F3E-7BE3EAA30D96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AR Metadata exchang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SC to 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-PMH (Open Archives Initiative Protocol for Metadata Harv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mplement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I 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www.dlese.org/dds/services/joai_software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Cat 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www.oclc.org/research/activities/oaicat/defaul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/DCPCs uploading DAR Metadata to 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TS: file-naming-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D7A2A-E551-47AF-9799-45449AE7B0F8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Resources and further information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ET-MDI – Final Report http://www.wmo.int/pages/prog/www/WDM/IPET-MDI-I/report/Report_IPETMDI_I_20100503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ET-MDI Guidance Documentation, Draft http://www.wmo.int/pages/prog/wis/2010/metadata/version_1-2/WMO%20Core%20Metadata%20Profile%20v1-2%20Guidance%20Documentation%20v0.1%20(DRAFT)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 Group: wmo-ipetmdi@googlegroups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O Schema Location: http://wis.wmo.int/2011/schemata/iso19139_2007/schema/gmd/gmd.x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Editor -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www.inspire-geoportal.eu/InspireEdito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Validator - http://www.inspire-geoportal.eu/INSPIREValidatorClient/validate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Metadata Implementing Rules -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inspire.jrc.ec.europa.eu/documents/Metadata/INSPIRE_MD_IR_and_ISO_v1_2_20100616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D006C-A8A2-4152-B3DD-54E0D4A1E7B3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CF2FB-2869-420A-916F-701098DD6881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data record types &amp; associated data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 Metadata Ident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WD DAR Metadata generator –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9C20E-E8A6-45C2-8C93-877303D0B7A5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Note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’m not member of IPET-M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esentation is an introduction to DAR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 Metadata are XM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ell-formed XML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 against a schema (ISO 1913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19139 defines an XML representation for ISO 19115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esentation shows DWDs approach to produce DAR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B961D-B1F1-43AC-8794-E0D7223B3727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Supermarket without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270480" cy="4176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"/>
          <p:cNvSpPr/>
          <p:nvPr/>
        </p:nvSpPr>
        <p:spPr>
          <a:xfrm>
            <a:off x="395280" y="6237360"/>
            <a:ext cx="822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800" spc="-1" strike="noStrike">
                <a:solidFill>
                  <a:srgbClr val="2d4b9b"/>
                </a:solidFill>
                <a:latin typeface="Arial"/>
                <a:ea typeface="Microsoft YaHei"/>
              </a:rPr>
              <a:t>Source: WMO Core Metadata Profile v1-2 Guidance Documentation v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C4003-B3E9-4599-93AC-B21EF291D9E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Supermarket with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395280" y="6237360"/>
            <a:ext cx="822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800" spc="-1" strike="noStrike">
                <a:solidFill>
                  <a:srgbClr val="2d4b9b"/>
                </a:solidFill>
                <a:latin typeface="Arial"/>
                <a:ea typeface="Microsoft YaHei"/>
              </a:rPr>
              <a:t>Source: WMO Core Metadata Profile v1-2 Guidance Documentation v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96840" y="1812960"/>
            <a:ext cx="715032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76C30-1BD2-4D7D-95AE-8E4DFEA71F7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VolC1 and DAR metadat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20" y="4220640"/>
            <a:ext cx="42685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C1: One line per bulle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 Metadata: One XML file per bulletin ~ 20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871640"/>
            <a:ext cx="7956720" cy="1871640"/>
          </a:xfrm>
          <a:prstGeom prst="flowChartPunchedTape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LATVIA","RIGA","11/06/2008","PACH40","EVRR","HDF5","H+00,H+10,H+20,H+30,H+40,H+50",,"RADAR DATA FROM RIGA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6","ENMI","FM 94-XII BUFR","H+00,H+15,H+30,H+45",,"RADAR WIND PROFILE DATA OF ANDOYA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7","ENMI","FM 94-XII BUFR","H+00,H+15,H+30,H+45",,"RADAR WIND PROFILE DATA OF HASVI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8","ENMI","FM 94-XII BUFR","H+00,H+15,H+30,H+45",,"RADAR WIND PROFILE DATA OF STA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9","ENMI","FM 94-XII BUFR","H+00,H+15,H+30,H+45",,"RADAR WIND PROFILE DATA OF HURUM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OFFENBACH","GERMANY","OFFENBACH","06/07/2007","IUPD40","EDZW","FM 94-XIII","AS REQUIRED","10204","SINGLE RADAR VERTICAL 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518000" cy="429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EF02C-5E0E-4C57-848C-B75AAF3F8316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WMO-Core-Metadata-Profile: Minimum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8360" y="2066760"/>
            <a:ext cx="7397640" cy="36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19E07-373D-456F-B401-4C375BE4FDD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68680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77CBB-8BB6-4A5E-9555-FAE69FA7DA14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record types &amp; associated dataset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data Recor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scribes a dataset of bulletins which are stored in the 24-hour cache of the GI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etadata recor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equivalent (although more informative) to a record in WMO vol C1 &amp; describes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ntents of this type of bulletin; for example SYNOPS from several observation stations; including MLO (Mauna Loa, Hawaii)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recor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scribes a long-term climate record from station MLO which is comprised of a collection of SYNOPTIC observations from, say, 1954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AAE7E-F6E6-46F6-9335-1981EDF9E60F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9:57:45Z</dcterms:created>
  <dc:creator>Administrator</dc:creator>
  <dc:description/>
  <dc:language>en-US</dc:language>
  <cp:lastModifiedBy>Markus Heene</cp:lastModifiedBy>
  <cp:lastPrinted>2006-12-13T10:14:45Z</cp:lastPrinted>
  <dcterms:modified xsi:type="dcterms:W3CDTF">2012-02-01T16:53:32Z</dcterms:modified>
  <cp:revision>264</cp:revision>
  <dc:subject/>
  <dc:title>Folie 1</dc:title>
</cp:coreProperties>
</file>